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29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07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О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Органска хемија 1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циклична ароматична једињења. Хетероциклична једињења. Макромолеку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рацен и фенантрен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900000" y="2133720"/>
          <a:ext cx="3167280" cy="12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133720"/>
                    <a:ext cx="316728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Box 4"/>
          <p:cNvSpPr/>
          <p:nvPr/>
        </p:nvSpPr>
        <p:spPr>
          <a:xfrm>
            <a:off x="3367800" y="22845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3669120" y="2452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3688200" y="27576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3381840" y="2927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8"/>
          <p:cNvSpPr/>
          <p:nvPr/>
        </p:nvSpPr>
        <p:spPr>
          <a:xfrm>
            <a:off x="1334160" y="29941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1046880" y="24526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1046880" y="2792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1"/>
          <p:cNvSpPr/>
          <p:nvPr/>
        </p:nvSpPr>
        <p:spPr>
          <a:xfrm>
            <a:off x="3655080" y="54864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2"/>
          <p:cNvSpPr/>
          <p:nvPr/>
        </p:nvSpPr>
        <p:spPr>
          <a:xfrm>
            <a:off x="3832920" y="51418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3"/>
          <p:cNvSpPr/>
          <p:nvPr/>
        </p:nvSpPr>
        <p:spPr>
          <a:xfrm>
            <a:off x="1837440" y="5479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4"/>
          <p:cNvSpPr/>
          <p:nvPr/>
        </p:nvSpPr>
        <p:spPr>
          <a:xfrm>
            <a:off x="3655080" y="4797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15"/>
          <p:cNvGraphicFramePr/>
          <p:nvPr/>
        </p:nvGraphicFramePr>
        <p:xfrm>
          <a:off x="1044720" y="4221000"/>
          <a:ext cx="3187440" cy="158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44720" y="4221000"/>
                    <a:ext cx="318744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Box 16"/>
          <p:cNvSpPr/>
          <p:nvPr/>
        </p:nvSpPr>
        <p:spPr>
          <a:xfrm>
            <a:off x="1168920" y="51004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7"/>
          <p:cNvSpPr/>
          <p:nvPr/>
        </p:nvSpPr>
        <p:spPr>
          <a:xfrm>
            <a:off x="1311840" y="5349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8"/>
          <p:cNvSpPr/>
          <p:nvPr/>
        </p:nvSpPr>
        <p:spPr>
          <a:xfrm>
            <a:off x="3107160" y="53164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1413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рацен и фенантрен још лакше подлежу оксидацији и редукцији од нафтал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6516720" y="4005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10-антрахин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6480000" y="62373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10-дихидроантрац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684360" y="2276640"/>
          <a:ext cx="6767280" cy="39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276640"/>
                    <a:ext cx="6767280" cy="39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4"/>
          <p:cNvSpPr/>
          <p:nvPr/>
        </p:nvSpPr>
        <p:spPr>
          <a:xfrm>
            <a:off x="6564240" y="35337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10-фенантренхин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6516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10-дихидрофенантр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Object 5"/>
          <p:cNvGraphicFramePr/>
          <p:nvPr/>
        </p:nvGraphicFramePr>
        <p:xfrm>
          <a:off x="0" y="1557360"/>
          <a:ext cx="755028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75502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62828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антрацен и фенантрен подлежу електрофилној супституцији, али ове реакције углавном нису значајне за синтезу- настају смеше полисупституисаних продук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ацен и фенантрен се бромују у положају 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а једињења, а посебно антрацен, се могу адирати бромом при чему настаје 9,10-дибромо-9,10-дихидро-дерива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церогени угљоводониц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3"/>
          <p:cNvGraphicFramePr/>
          <p:nvPr/>
        </p:nvGraphicFramePr>
        <p:xfrm>
          <a:off x="468360" y="1844640"/>
          <a:ext cx="3002040" cy="22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3002040" cy="22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4"/>
          <p:cNvGraphicFramePr/>
          <p:nvPr/>
        </p:nvGraphicFramePr>
        <p:xfrm>
          <a:off x="2700360" y="3933720"/>
          <a:ext cx="3311640" cy="238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00360" y="3933720"/>
                    <a:ext cx="3311640" cy="23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5"/>
          <p:cNvGraphicFramePr/>
          <p:nvPr/>
        </p:nvGraphicFramePr>
        <p:xfrm>
          <a:off x="5580000" y="1484280"/>
          <a:ext cx="3384720" cy="223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80000" y="1484280"/>
                    <a:ext cx="338472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Box 6"/>
          <p:cNvSpPr/>
          <p:nvPr/>
        </p:nvSpPr>
        <p:spPr>
          <a:xfrm>
            <a:off x="410400" y="4067280"/>
            <a:ext cx="32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10-диметил-1,2-бензантрац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6662520" y="369720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илколантр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"/>
          <p:cNvSpPr/>
          <p:nvPr/>
        </p:nvSpPr>
        <p:spPr>
          <a:xfrm>
            <a:off x="3672360" y="6053040"/>
            <a:ext cx="24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5,6-дибензантрац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тероциклична једињењ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916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ична једињења код којих у састав прстена осим атома С улазе и један или више других елемената-хетероатома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, S, O, P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прстена у молекулу хетероатома веома варира-од трочланог до вишечлан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распрострањенији су петочлани и шесточлани хетероато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очлана хетероциклична једињења са једним хетероатом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3"/>
          <p:cNvGraphicFramePr/>
          <p:nvPr/>
        </p:nvGraphicFramePr>
        <p:xfrm>
          <a:off x="1049400" y="2349360"/>
          <a:ext cx="6738840" cy="25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9400" y="2349360"/>
                    <a:ext cx="6738840" cy="25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TextBox 4"/>
          <p:cNvSpPr/>
          <p:nvPr/>
        </p:nvSpPr>
        <p:spPr>
          <a:xfrm>
            <a:off x="1187280" y="494028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ол                                    Фуран                                       Тиоф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ње пирола, фурана и тиоф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2"/>
          <p:cNvGraphicFramePr/>
          <p:nvPr/>
        </p:nvGraphicFramePr>
        <p:xfrm>
          <a:off x="1403280" y="2637000"/>
          <a:ext cx="6195960" cy="30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637000"/>
                    <a:ext cx="619596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Box 4"/>
          <p:cNvSpPr/>
          <p:nvPr/>
        </p:nvSpPr>
        <p:spPr>
          <a:xfrm>
            <a:off x="6809400" y="407664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иоф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5"/>
          <p:cNvSpPr/>
          <p:nvPr/>
        </p:nvSpPr>
        <p:spPr>
          <a:xfrm>
            <a:off x="1441080" y="6021360"/>
            <a:ext cx="40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урфурал                                 фу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ње пирола, фурана и тиофена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al-Knorr-ова мет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3"/>
          <p:cNvGraphicFramePr/>
          <p:nvPr/>
        </p:nvGraphicFramePr>
        <p:xfrm>
          <a:off x="1619280" y="2421000"/>
          <a:ext cx="5761080" cy="410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2421000"/>
                    <a:ext cx="5761080" cy="41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Box 4"/>
          <p:cNvSpPr/>
          <p:nvPr/>
        </p:nvSpPr>
        <p:spPr>
          <a:xfrm>
            <a:off x="1763640" y="342900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цетонилацетон (хексан-2,5-дио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1410480" y="580536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-диметилфу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3428640" y="6488280"/>
            <a:ext cx="195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-диметилпир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"/>
          <p:cNvSpPr/>
          <p:nvPr/>
        </p:nvSpPr>
        <p:spPr>
          <a:xfrm>
            <a:off x="5445720" y="5877000"/>
            <a:ext cx="20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-диметилтиоф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484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и пирола, фурана и тиофена су резонанциони хибриди у чијим структурама учествује по неколико резонанционих обл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а резонанције им је нижа од енергије резонанције бензена, али је већа од оне коју имају обични ди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ол не показује базне особине- слободан електронски пар н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ије слободан, већ представља део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лектронског секст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Object 3"/>
          <p:cNvGraphicFramePr/>
          <p:nvPr/>
        </p:nvGraphicFramePr>
        <p:xfrm>
          <a:off x="179280" y="3500280"/>
          <a:ext cx="8734680" cy="17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500280"/>
                    <a:ext cx="8734680" cy="17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циклична ароматична једињењ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457200" y="1916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два ароматична прстена имају заједнички пар С атома кажемо да су кондензовани, сједињењ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и и најједноставнији кондензовани угљоводоници с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фтал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рац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антр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филн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оматска </a:t>
            </a: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итуција (ЕАС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916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ол, фуран и тиофен подлежу електрофилној супституцији (халогеновању, нитровању, сулфоновању, ациловању) и у овим реакцијама су реактивнији од бенз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е сулфоновања и нитровања се врше под другачијим условима у односу на бензен- под дејством киселина хетероцикли полимеризу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филни напад се врши у положају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Object 3"/>
          <p:cNvGraphicFramePr/>
          <p:nvPr/>
        </p:nvGraphicFramePr>
        <p:xfrm>
          <a:off x="179280" y="1773360"/>
          <a:ext cx="8713800" cy="39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73360"/>
                    <a:ext cx="8713800" cy="39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ативна реактивност с електрофилним реагенсима (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опада у низу: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2"/>
          <p:cNvGraphicFramePr/>
          <p:nvPr/>
        </p:nvGraphicFramePr>
        <p:xfrm>
          <a:off x="900000" y="2924280"/>
          <a:ext cx="701856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924280"/>
                    <a:ext cx="701856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АС код тиоф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Object 3"/>
          <p:cNvGraphicFramePr/>
          <p:nvPr/>
        </p:nvGraphicFramePr>
        <p:xfrm>
          <a:off x="179280" y="2492280"/>
          <a:ext cx="845820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492280"/>
                    <a:ext cx="845820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Box 5"/>
          <p:cNvSpPr/>
          <p:nvPr/>
        </p:nvSpPr>
        <p:spPr>
          <a:xfrm>
            <a:off x="0" y="37162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нитротиофен     3-нитротиофен                                                                     2-тиофенсулфонска кисел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87280" y="5229360"/>
            <a:ext cx="79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хлортиофен                                                                                      2-ацетилтиофе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АС код фура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2"/>
          <p:cNvGraphicFramePr/>
          <p:nvPr/>
        </p:nvGraphicFramePr>
        <p:xfrm>
          <a:off x="179280" y="2276640"/>
          <a:ext cx="8691840" cy="259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276640"/>
                    <a:ext cx="869184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Box 4"/>
          <p:cNvSpPr/>
          <p:nvPr/>
        </p:nvSpPr>
        <p:spPr>
          <a:xfrm>
            <a:off x="8280" y="4941720"/>
            <a:ext cx="33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ацетилфуран    2-ацетилфу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1261800" y="306864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бромфу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5466960" y="4076640"/>
            <a:ext cx="371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фурансулфонска     пирид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АС код пир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2"/>
          <p:cNvGraphicFramePr/>
          <p:nvPr/>
        </p:nvGraphicFramePr>
        <p:xfrm>
          <a:off x="468360" y="2205000"/>
          <a:ext cx="8140680" cy="338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205000"/>
                    <a:ext cx="814068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TextBox 4"/>
          <p:cNvSpPr/>
          <p:nvPr/>
        </p:nvSpPr>
        <p:spPr>
          <a:xfrm>
            <a:off x="299520" y="3500280"/>
            <a:ext cx="88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нитропирол                                                                               2-пиролсулфонска 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5"/>
          <p:cNvSpPr/>
          <p:nvPr/>
        </p:nvSpPr>
        <p:spPr>
          <a:xfrm>
            <a:off x="323640" y="5589720"/>
            <a:ext cx="85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ацетилпирол                                                                                  тетрајодпирол (јодо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очла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етероциклични системи са два азота (диазоли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3"/>
          <p:cNvGraphicFramePr/>
          <p:nvPr/>
        </p:nvGraphicFramePr>
        <p:xfrm>
          <a:off x="2160720" y="2637000"/>
          <a:ext cx="5175000" cy="20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720" y="2637000"/>
                    <a:ext cx="5175000" cy="20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TextBox 4"/>
          <p:cNvSpPr/>
          <p:nvPr/>
        </p:nvSpPr>
        <p:spPr>
          <a:xfrm>
            <a:off x="1258920" y="537372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-диазол (пиразол)                                         1,3-диазол (имидазо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очла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етероциклични системи са сумпором и азотом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1258920" y="494172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-тиазол (изотиазол)                                    1,3-тиазол (тиазо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2050920" y="2924280"/>
          <a:ext cx="133992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924280"/>
                    <a:ext cx="133992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4"/>
          <p:cNvGraphicFramePr/>
          <p:nvPr/>
        </p:nvGraphicFramePr>
        <p:xfrm>
          <a:off x="6156360" y="2852640"/>
          <a:ext cx="1216080" cy="13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2852640"/>
                    <a:ext cx="121608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очла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етероциклични системи са кисеоником и азотом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"/>
          <p:cNvSpPr/>
          <p:nvPr/>
        </p:nvSpPr>
        <p:spPr>
          <a:xfrm>
            <a:off x="1476360" y="5013360"/>
            <a:ext cx="69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-оксазол (изооксазол)                          1,3-оксазол (оксазо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3"/>
          <p:cNvGraphicFramePr/>
          <p:nvPr/>
        </p:nvGraphicFramePr>
        <p:xfrm>
          <a:off x="6084720" y="2781360"/>
          <a:ext cx="1224000" cy="13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2781360"/>
                    <a:ext cx="122400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4"/>
          <p:cNvGraphicFramePr/>
          <p:nvPr/>
        </p:nvGraphicFramePr>
        <p:xfrm>
          <a:off x="2411280" y="2863800"/>
          <a:ext cx="1297080" cy="124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2863800"/>
                    <a:ext cx="1297080" cy="12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очлана хетероциклична једињења са једним хетероато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е једињење је пирид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идин је јача база од пирола, али знатно слабија од алифатичних ам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Object 3"/>
          <p:cNvGraphicFramePr/>
          <p:nvPr/>
        </p:nvGraphicFramePr>
        <p:xfrm>
          <a:off x="711360" y="4437000"/>
          <a:ext cx="7677000" cy="16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4437000"/>
                    <a:ext cx="767700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дензовани ароматични систе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Object 4"/>
          <p:cNvGraphicFramePr/>
          <p:nvPr/>
        </p:nvGraphicFramePr>
        <p:xfrm>
          <a:off x="1187280" y="2852640"/>
          <a:ext cx="1944720" cy="11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852640"/>
                    <a:ext cx="1944720" cy="11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Object 5"/>
          <p:cNvGraphicFramePr/>
          <p:nvPr/>
        </p:nvGraphicFramePr>
        <p:xfrm>
          <a:off x="5435640" y="2924280"/>
          <a:ext cx="2616120" cy="10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5640" y="2924280"/>
                    <a:ext cx="26161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6"/>
          <p:cNvGraphicFramePr/>
          <p:nvPr/>
        </p:nvGraphicFramePr>
        <p:xfrm>
          <a:off x="3276720" y="4653000"/>
          <a:ext cx="2447640" cy="1326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4653000"/>
                    <a:ext cx="2447640" cy="13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TextBox 7"/>
          <p:cNvSpPr/>
          <p:nvPr/>
        </p:nvSpPr>
        <p:spPr>
          <a:xfrm>
            <a:off x="1413720" y="4221000"/>
            <a:ext cx="13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фтал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6167520" y="4205160"/>
            <a:ext cx="136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рац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3789720" y="6165720"/>
            <a:ext cx="15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антр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ње пирид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2"/>
          <p:cNvGraphicFramePr/>
          <p:nvPr/>
        </p:nvGraphicFramePr>
        <p:xfrm>
          <a:off x="900000" y="2421000"/>
          <a:ext cx="4392720" cy="123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421000"/>
                    <a:ext cx="439272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3"/>
          <p:cNvGraphicFramePr/>
          <p:nvPr/>
        </p:nvGraphicFramePr>
        <p:xfrm>
          <a:off x="324000" y="4149720"/>
          <a:ext cx="8434080" cy="13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4149720"/>
                    <a:ext cx="8434080" cy="13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TextBox 5"/>
          <p:cNvSpPr/>
          <p:nvPr/>
        </p:nvSpPr>
        <p:spPr>
          <a:xfrm>
            <a:off x="1199880" y="5445000"/>
            <a:ext cx="1542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= H или 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4969440" y="5445000"/>
            <a:ext cx="20764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идин (R= 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-пиколин (R=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е реакције пиридин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8900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еофилна супститу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ша се слично као бензен који је супституисан групом која привлачи електро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вија се веома лако, посебно у положајима 2. и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филна супституција</a:t>
            </a: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ша се као врло дезактивирани бензенов дерив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 да се изврши нитровање, сулфоновање и халогеновање само у драстичним условима, а ациловање се не врши ни т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супституције долази у положају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АС код пирид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2"/>
          <p:cNvGraphicFramePr/>
          <p:nvPr/>
        </p:nvGraphicFramePr>
        <p:xfrm>
          <a:off x="539640" y="2565360"/>
          <a:ext cx="7488360" cy="24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565360"/>
                    <a:ext cx="748836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TextBox 4"/>
          <p:cNvSpPr/>
          <p:nvPr/>
        </p:nvSpPr>
        <p:spPr>
          <a:xfrm>
            <a:off x="6881040" y="450864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ДЕ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очлана хетероциклична једињења са два хетероат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Object 3"/>
          <p:cNvGraphicFramePr/>
          <p:nvPr/>
        </p:nvGraphicFramePr>
        <p:xfrm>
          <a:off x="793800" y="2708280"/>
          <a:ext cx="7704000" cy="20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2708280"/>
                    <a:ext cx="770400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TextBox 4"/>
          <p:cNvSpPr/>
          <p:nvPr/>
        </p:nvSpPr>
        <p:spPr>
          <a:xfrm>
            <a:off x="611280" y="53006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-диазин (пиридазин)              1,3-диазин (пиримидин)       1,4-диазин (пирази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ринске и пиримидинске ба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Object 2"/>
          <p:cNvGraphicFramePr/>
          <p:nvPr/>
        </p:nvGraphicFramePr>
        <p:xfrm>
          <a:off x="684360" y="2205000"/>
          <a:ext cx="7770600" cy="35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205000"/>
                    <a:ext cx="7770600" cy="35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TextBox 4"/>
          <p:cNvSpPr/>
          <p:nvPr/>
        </p:nvSpPr>
        <p:spPr>
          <a:xfrm>
            <a:off x="1923840" y="2997360"/>
            <a:ext cx="77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5660280" y="299736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имид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8"/>
          <p:cNvSpPr/>
          <p:nvPr/>
        </p:nvSpPr>
        <p:spPr>
          <a:xfrm>
            <a:off x="437760" y="5661000"/>
            <a:ext cx="892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нин                  гуанин                      цитозин           урацил              ти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)                       (G)                              (С)      (U-само код РНК)  (Т-само код ДНК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ромолекул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844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ромолекули- молекули састављени од великог броја ат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 би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ог порек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и: полисахариди, протеини, нуклеинске киселине, природни каучук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ргански: алумосилика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тичког порек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и: полиетилен, полистир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ргански: полисиликати, полифосфа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органски: полисилокс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ификовани синтетички: јоноизмењивачке смо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ификовани природни: карбоксиметилцелул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мери и полимеризациј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16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меризација је процес спајања много малих молекула (мономера) у један велики молеку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мери могу настати 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анчаним реакцијама полимеризације- </a:t>
            </a: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меризација етил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упњевитим реакцијама полимериз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ил полимеризација преко слободних радик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Object 3"/>
          <p:cNvGraphicFramePr/>
          <p:nvPr/>
        </p:nvGraphicFramePr>
        <p:xfrm>
          <a:off x="468360" y="2708280"/>
          <a:ext cx="8184960" cy="147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708280"/>
                    <a:ext cx="818496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TextBox 4"/>
          <p:cNvSpPr/>
          <p:nvPr/>
        </p:nvSpPr>
        <p:spPr>
          <a:xfrm>
            <a:off x="115920" y="303228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n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5"/>
          <p:cNvSpPr/>
          <p:nvPr/>
        </p:nvSpPr>
        <p:spPr>
          <a:xfrm>
            <a:off x="685800" y="4869000"/>
            <a:ext cx="768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илни мономер                                                          полимер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олимеризациј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8900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олимер- настаје полимеризацијом смеше два или више моном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рађен је од две или више честица унутар једног молеку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олимеризацијом се могу добити сировине чије се особине разликују од хомополимера, чиме се могу проширити технолошке могућности (нпр. стире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пол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сти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тернирајућ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3"/>
          <p:cNvGraphicFramePr/>
          <p:nvPr/>
        </p:nvGraphicFramePr>
        <p:xfrm>
          <a:off x="468360" y="1916280"/>
          <a:ext cx="8032680" cy="35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16280"/>
                    <a:ext cx="8032680" cy="35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фтален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3"/>
          <p:cNvGraphicFramePr/>
          <p:nvPr/>
        </p:nvGraphicFramePr>
        <p:xfrm>
          <a:off x="900000" y="1916280"/>
          <a:ext cx="2016360" cy="12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916280"/>
                    <a:ext cx="2016360" cy="12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TextBox 4"/>
          <p:cNvSpPr/>
          <p:nvPr/>
        </p:nvSpPr>
        <p:spPr>
          <a:xfrm>
            <a:off x="2268360" y="2035080"/>
            <a:ext cx="2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2548080" y="2205000"/>
            <a:ext cx="21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2306520" y="2641680"/>
            <a:ext cx="2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971640" y="2147760"/>
            <a:ext cx="2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2548080" y="2486160"/>
            <a:ext cx="21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971640" y="2533680"/>
            <a:ext cx="2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1332000" y="2671920"/>
            <a:ext cx="2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1225440" y="1978200"/>
            <a:ext cx="2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3"/>
          <p:cNvSpPr/>
          <p:nvPr/>
        </p:nvSpPr>
        <p:spPr>
          <a:xfrm>
            <a:off x="539640" y="3284640"/>
            <a:ext cx="820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ства слична бенз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поран према реакцијама која су карактеристична за незасићена једињења, али мање него бенз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ичне реакције нафталена су реакције електрофилне супституције у којима се водоник замењује као водоников јон, а нафталенски систем остаје сачув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е нафтален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916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3"/>
          <p:cNvGraphicFramePr/>
          <p:nvPr/>
        </p:nvGraphicFramePr>
        <p:xfrm>
          <a:off x="900000" y="2421000"/>
          <a:ext cx="578808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421000"/>
                    <a:ext cx="578808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TextBox 4"/>
          <p:cNvSpPr/>
          <p:nvPr/>
        </p:nvSpPr>
        <p:spPr>
          <a:xfrm>
            <a:off x="6659640" y="39337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4’-нафтохин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6659640" y="602136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хидрид фталне кисел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едук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3"/>
          <p:cNvGraphicFramePr/>
          <p:nvPr/>
        </p:nvGraphicFramePr>
        <p:xfrm>
          <a:off x="1119240" y="1832040"/>
          <a:ext cx="6332400" cy="469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9240" y="1832040"/>
                    <a:ext cx="633240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TextBox 4"/>
          <p:cNvSpPr/>
          <p:nvPr/>
        </p:nvSpPr>
        <p:spPr>
          <a:xfrm>
            <a:off x="6659640" y="2898720"/>
            <a:ext cx="23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4-дихидронафта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6226560" y="5221440"/>
            <a:ext cx="29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3,4-тетрахидронафта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5940360" y="6211800"/>
            <a:ext cx="23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ахидронафта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а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413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лектрофилна супститу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3"/>
          <p:cNvGraphicFramePr/>
          <p:nvPr/>
        </p:nvGraphicFramePr>
        <p:xfrm>
          <a:off x="2268360" y="1173240"/>
          <a:ext cx="5688360" cy="54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173240"/>
                    <a:ext cx="5688360" cy="54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Box 4"/>
          <p:cNvSpPr/>
          <p:nvPr/>
        </p:nvSpPr>
        <p:spPr>
          <a:xfrm>
            <a:off x="6850080" y="18860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нитронафта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7099200" y="3686040"/>
            <a:ext cx="18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бромнафта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5870520" y="5440320"/>
            <a:ext cx="327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нафталенсулфонска 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5570640" y="6480000"/>
            <a:ext cx="357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нафталенсулфонска 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5720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iedel-Crafts</a:t>
            </a:r>
            <a:r>
              <a:rPr b="0" lang="sr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во ацило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900000" y="1666800"/>
          <a:ext cx="6696360" cy="48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666800"/>
                    <a:ext cx="6696360" cy="48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Box 4"/>
          <p:cNvSpPr/>
          <p:nvPr/>
        </p:nvSpPr>
        <p:spPr>
          <a:xfrm>
            <a:off x="5651640" y="344808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ацетонафта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6227640" y="63086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ацетонафта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Dusan</cp:lastModifiedBy>
  <dcterms:modified xsi:type="dcterms:W3CDTF">2017-02-01T01:27:24Z</dcterms:modified>
  <cp:revision>248</cp:revision>
  <dc:subject/>
  <dc:title>Slide 1</dc:title>
</cp:coreProperties>
</file>